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0.png" ContentType="image/pn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BB7-2088-4C3E-9C51-0EDB3343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36C-6F4A-4789-961B-4ECFE4D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351-7EF2-4B87-BC6B-8B13849D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AB87-C2A2-4990-8E32-174A926C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DF37D1-53C0-4A36-9291-F5FE6806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AB36E-A261-4E62-A846-EA6B7EDC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07D2A-D23C-40EF-8023-CA8DD56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1FF80-595F-497A-A011-664E3EA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4B64D-99E3-4B69-906B-4E381C8E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446425-8599-4AB2-8DE4-239D6E99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8052E-88E7-485D-8ADB-DD633D66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544-AD34-42EF-8030-B273E041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DDABC-88DE-42CF-9E43-11F727A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F8BF9-AE88-4D37-883A-CB66F56B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BC7E6-C497-4489-BDC7-08A42569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E407A-7EE7-45EB-9B2E-8E4AC079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04352-7AA4-4D51-9FF9-1AF9F59B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82E4-9AD5-431C-86F8-2D5E0EF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8D9-AC0C-486D-8F27-742B66A2F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000-6612-4B75-994D-F26F6436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E8EB-AF6F-4C25-942E-4F19B17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036-1FE2-4336-B1E6-A249574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31A-13E4-4930-8FC4-724E2EA4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D11-1B49-4147-B718-1C2818F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40B1-1183-4A68-8F5E-B12FF361F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4F77-96B6-4543-AA05-C0552A7EB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0.jpeg"/><Relationship Id="rId7" Type="http://schemas.openxmlformats.org/officeDocument/2006/relationships/image" Target="../media/image25.jpeg"/><Relationship Id="rId8" Type="http://schemas.openxmlformats.org/officeDocument/2006/relationships/image" Target="../media/image22.jpe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6.jpeg"/><Relationship Id="rId5" Type="http://schemas.openxmlformats.org/officeDocument/2006/relationships/image" Target="../media/image23.jpeg"/><Relationship Id="rId6" Type="http://schemas.openxmlformats.org/officeDocument/2006/relationships/image" Target="../media/image25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26.jpeg"/><Relationship Id="rId4" Type="http://schemas.openxmlformats.org/officeDocument/2006/relationships/image" Target="../media/image23.jpeg"/><Relationship Id="rId5" Type="http://schemas.openxmlformats.org/officeDocument/2006/relationships/image" Target="../media/image20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33300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omic Sans MS"/>
              </a:rPr>
              <a:t>Lesson 8 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tter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539640" y="4221000"/>
            <a:ext cx="5099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Play a game: What’s miss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857160" y="1944720"/>
            <a:ext cx="157176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" descr="u=2002946973,993137017&amp;fm=51&amp;gp=0.jpg"/>
          <p:cNvPicPr/>
          <p:nvPr/>
        </p:nvPicPr>
        <p:blipFill>
          <a:blip r:embed="rId3"/>
          <a:stretch/>
        </p:blipFill>
        <p:spPr>
          <a:xfrm>
            <a:off x="2928960" y="185724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6" descr="u=198856026,1362324775&amp;fm=23&amp;gp=0.jpg"/>
          <p:cNvPicPr/>
          <p:nvPr/>
        </p:nvPicPr>
        <p:blipFill>
          <a:blip r:embed="rId4"/>
          <a:stretch/>
        </p:blipFill>
        <p:spPr>
          <a:xfrm>
            <a:off x="4643280" y="1571760"/>
            <a:ext cx="1143000" cy="2071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7" descr="u=3730467838,326652304&amp;fm=23&amp;gp=0.jpg"/>
          <p:cNvPicPr/>
          <p:nvPr/>
        </p:nvPicPr>
        <p:blipFill>
          <a:blip r:embed="rId5"/>
          <a:stretch/>
        </p:blipFill>
        <p:spPr>
          <a:xfrm>
            <a:off x="785880" y="4429080"/>
            <a:ext cx="1214280" cy="15238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9" descr="u=2516574750,2995763165&amp;fm=51&amp;gp=0.jpg"/>
          <p:cNvPicPr/>
          <p:nvPr/>
        </p:nvPicPr>
        <p:blipFill>
          <a:blip r:embed="rId6"/>
          <a:stretch/>
        </p:blipFill>
        <p:spPr>
          <a:xfrm>
            <a:off x="5500800" y="435780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" descr="u=63254826,2699210108&amp;fm=52&amp;gp=0.jpg"/>
          <p:cNvPicPr/>
          <p:nvPr/>
        </p:nvPicPr>
        <p:blipFill>
          <a:blip r:embed="rId7"/>
          <a:stretch/>
        </p:blipFill>
        <p:spPr>
          <a:xfrm>
            <a:off x="3786120" y="4500720"/>
            <a:ext cx="1500120" cy="14666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u=919641761,1427816476&amp;fm=51&amp;gp=0.jpg"/>
          <p:cNvPicPr/>
          <p:nvPr/>
        </p:nvPicPr>
        <p:blipFill>
          <a:blip r:embed="rId8"/>
          <a:stretch/>
        </p:blipFill>
        <p:spPr>
          <a:xfrm>
            <a:off x="6286680" y="2000160"/>
            <a:ext cx="1618920" cy="16002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u=536927569,3863298031&amp;fm=23&amp;gp=0.jpg"/>
          <p:cNvPicPr/>
          <p:nvPr/>
        </p:nvPicPr>
        <p:blipFill>
          <a:blip r:embed="rId9"/>
          <a:stretch/>
        </p:blipFill>
        <p:spPr>
          <a:xfrm>
            <a:off x="7429680" y="4214880"/>
            <a:ext cx="1143000" cy="171432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3" descr="u=1445793302,3451484911&amp;fm=51&amp;gp=0.jpg"/>
          <p:cNvPicPr/>
          <p:nvPr/>
        </p:nvPicPr>
        <p:blipFill>
          <a:blip r:embed="rId10"/>
          <a:stretch/>
        </p:blipFill>
        <p:spPr>
          <a:xfrm>
            <a:off x="2286000" y="4357800"/>
            <a:ext cx="1619280" cy="14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428760" y="785880"/>
            <a:ext cx="1571400" cy="20955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4" descr="u=2002946973,993137017&amp;fm=51&amp;gp=0.jpg"/>
          <p:cNvPicPr/>
          <p:nvPr/>
        </p:nvPicPr>
        <p:blipFill>
          <a:blip r:embed="rId3"/>
          <a:stretch/>
        </p:blipFill>
        <p:spPr>
          <a:xfrm>
            <a:off x="2786040" y="1071720"/>
            <a:ext cx="1219320" cy="161892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" descr="u=198856026,1362324775&amp;fm=23&amp;gp=0.jpg"/>
          <p:cNvPicPr/>
          <p:nvPr/>
        </p:nvPicPr>
        <p:blipFill>
          <a:blip r:embed="rId4"/>
          <a:stretch/>
        </p:blipFill>
        <p:spPr>
          <a:xfrm>
            <a:off x="4786200" y="785880"/>
            <a:ext cx="1143000" cy="20718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6" descr="u=2241758497,2874299169&amp;fm=23&amp;gp=0.jpg"/>
          <p:cNvPicPr/>
          <p:nvPr/>
        </p:nvPicPr>
        <p:blipFill>
          <a:blip r:embed="rId5"/>
          <a:stretch/>
        </p:blipFill>
        <p:spPr>
          <a:xfrm>
            <a:off x="6643800" y="857160"/>
            <a:ext cx="176184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7" descr="u=3730467838,326652304&amp;fm=23&amp;gp=0.jpg"/>
          <p:cNvPicPr/>
          <p:nvPr/>
        </p:nvPicPr>
        <p:blipFill>
          <a:blip r:embed="rId6"/>
          <a:stretch/>
        </p:blipFill>
        <p:spPr>
          <a:xfrm>
            <a:off x="714240" y="3857760"/>
            <a:ext cx="1214640" cy="15238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8" descr="u=1445793302,3451484911&amp;fm=51&amp;gp=0.jpg"/>
          <p:cNvPicPr/>
          <p:nvPr/>
        </p:nvPicPr>
        <p:blipFill>
          <a:blip r:embed="rId7"/>
          <a:stretch/>
        </p:blipFill>
        <p:spPr>
          <a:xfrm>
            <a:off x="2286000" y="38577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9" descr="u=63254826,2699210108&amp;fm=52&amp;gp=0.jpg"/>
          <p:cNvPicPr/>
          <p:nvPr/>
        </p:nvPicPr>
        <p:blipFill>
          <a:blip r:embed="rId8"/>
          <a:stretch/>
        </p:blipFill>
        <p:spPr>
          <a:xfrm>
            <a:off x="4071960" y="3857760"/>
            <a:ext cx="1500120" cy="1466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0" descr="u=2516574750,2995763165&amp;fm=51&amp;gp=0.jpg"/>
          <p:cNvPicPr/>
          <p:nvPr/>
        </p:nvPicPr>
        <p:blipFill>
          <a:blip r:embed="rId9"/>
          <a:stretch/>
        </p:blipFill>
        <p:spPr>
          <a:xfrm>
            <a:off x="6215040" y="371484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内容占位符 3" descr="u=1223758065,2523621559&amp;fm=52&amp;gp=0.jpg"/>
          <p:cNvPicPr/>
          <p:nvPr/>
        </p:nvPicPr>
        <p:blipFill>
          <a:blip r:embed="rId2"/>
          <a:stretch/>
        </p:blipFill>
        <p:spPr>
          <a:xfrm>
            <a:off x="928800" y="571680"/>
            <a:ext cx="1571400" cy="209520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" descr="u=198856026,1362324775&amp;fm=23&amp;gp=0.jpg"/>
          <p:cNvPicPr/>
          <p:nvPr/>
        </p:nvPicPr>
        <p:blipFill>
          <a:blip r:embed="rId3"/>
          <a:stretch/>
        </p:blipFill>
        <p:spPr>
          <a:xfrm>
            <a:off x="3429000" y="714240"/>
            <a:ext cx="1571760" cy="207180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5" descr="u=2241758497,2874299169&amp;fm=23&amp;gp=0.jpg"/>
          <p:cNvPicPr/>
          <p:nvPr/>
        </p:nvPicPr>
        <p:blipFill>
          <a:blip r:embed="rId4"/>
          <a:stretch/>
        </p:blipFill>
        <p:spPr>
          <a:xfrm>
            <a:off x="5786280" y="714240"/>
            <a:ext cx="17622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6" descr="u=919641761,1427816476&amp;fm=51&amp;gp=0.jpg"/>
          <p:cNvPicPr/>
          <p:nvPr/>
        </p:nvPicPr>
        <p:blipFill>
          <a:blip r:embed="rId5"/>
          <a:stretch/>
        </p:blipFill>
        <p:spPr>
          <a:xfrm>
            <a:off x="857160" y="3643200"/>
            <a:ext cx="1619280" cy="16002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7" descr="u=1445793302,3451484911&amp;fm=51&amp;gp=0.jpg"/>
          <p:cNvPicPr/>
          <p:nvPr/>
        </p:nvPicPr>
        <p:blipFill>
          <a:blip r:embed="rId6"/>
          <a:stretch/>
        </p:blipFill>
        <p:spPr>
          <a:xfrm>
            <a:off x="3857760" y="378612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8" descr="u=2516574750,2995763165&amp;fm=51&amp;gp=0.jpg"/>
          <p:cNvPicPr/>
          <p:nvPr/>
        </p:nvPicPr>
        <p:blipFill>
          <a:blip r:embed="rId7"/>
          <a:stretch/>
        </p:blipFill>
        <p:spPr>
          <a:xfrm>
            <a:off x="6072120" y="37861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内容占位符 3" descr="u=2002946973,993137017&amp;fm=51&amp;gp=0.jpg"/>
          <p:cNvPicPr/>
          <p:nvPr/>
        </p:nvPicPr>
        <p:blipFill>
          <a:blip r:embed="rId2"/>
          <a:stretch/>
        </p:blipFill>
        <p:spPr>
          <a:xfrm>
            <a:off x="1714680" y="857160"/>
            <a:ext cx="1647720" cy="2000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" descr="u=2241758497,2874299169&amp;fm=23&amp;gp=0.jpg"/>
          <p:cNvPicPr/>
          <p:nvPr/>
        </p:nvPicPr>
        <p:blipFill>
          <a:blip r:embed="rId3"/>
          <a:stretch/>
        </p:blipFill>
        <p:spPr>
          <a:xfrm>
            <a:off x="4857840" y="857160"/>
            <a:ext cx="1762200" cy="20289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5" descr="u=919641761,1427816476&amp;fm=51&amp;gp=0.jpg"/>
          <p:cNvPicPr/>
          <p:nvPr/>
        </p:nvPicPr>
        <p:blipFill>
          <a:blip r:embed="rId4"/>
          <a:stretch/>
        </p:blipFill>
        <p:spPr>
          <a:xfrm>
            <a:off x="857160" y="3643200"/>
            <a:ext cx="1619280" cy="160020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u=3730467838,326652304&amp;fm=23&amp;gp=0.jpg"/>
          <p:cNvPicPr/>
          <p:nvPr/>
        </p:nvPicPr>
        <p:blipFill>
          <a:blip r:embed="rId5"/>
          <a:stretch/>
        </p:blipFill>
        <p:spPr>
          <a:xfrm>
            <a:off x="3429000" y="3929040"/>
            <a:ext cx="1643040" cy="17859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" descr="u=536927569,3863298031&amp;fm=23&amp;gp=0.jpg"/>
          <p:cNvPicPr/>
          <p:nvPr/>
        </p:nvPicPr>
        <p:blipFill>
          <a:blip r:embed="rId6"/>
          <a:stretch/>
        </p:blipFill>
        <p:spPr>
          <a:xfrm>
            <a:off x="6500880" y="3714840"/>
            <a:ext cx="207180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Look and match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A   D   F    I     E    H     J    G    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f    b    e   h     j     a     d    i     g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Lesson 8: Lett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91520" cy="24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800000"/>
                </a:solidFill>
                <a:latin typeface="Tahoma"/>
              </a:rPr>
              <a:t>Let</a:t>
            </a:r>
            <a:r>
              <a:rPr b="0" lang="en-US" sz="8800" spc="-1" strike="noStrike">
                <a:solidFill>
                  <a:srgbClr val="800000"/>
                </a:solidFill>
                <a:latin typeface="Arial"/>
              </a:rPr>
              <a:t>’</a:t>
            </a:r>
            <a:r>
              <a:rPr b="0" lang="en-US" sz="8800" spc="-1" strike="noStrike">
                <a:solidFill>
                  <a:srgbClr val="800000"/>
                </a:solidFill>
                <a:latin typeface="Tahoma"/>
              </a:rPr>
              <a:t>s  sing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090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a. &lt;Find  a  Friend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b. &lt;ABC  song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Music"/>
          <p:cNvSpPr/>
          <p:nvPr/>
        </p:nvSpPr>
        <p:spPr>
          <a:xfrm>
            <a:off x="6084720" y="2708280"/>
            <a:ext cx="615960" cy="720720"/>
          </a:xfrm>
          <a:custGeom>
            <a:avLst/>
            <a:gdLst>
              <a:gd name="textAreaLeft" fmla="*/ 227520 w 615960"/>
              <a:gd name="textAreaRight" fmla="*/ 597240 w 615960"/>
              <a:gd name="textAreaTop" fmla="*/ 30600 h 720720"/>
              <a:gd name="textAreaBottom" fmla="*/ 178560 h 720720"/>
            </a:gdLst>
            <a:ahLst/>
            <a:rect l="textAreaLeft" t="textAreaTop" r="textAreaRight" b="textAreaBottom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Music"/>
          <p:cNvSpPr/>
          <p:nvPr/>
        </p:nvSpPr>
        <p:spPr>
          <a:xfrm>
            <a:off x="5148360" y="3716280"/>
            <a:ext cx="615960" cy="720720"/>
          </a:xfrm>
          <a:custGeom>
            <a:avLst/>
            <a:gdLst>
              <a:gd name="textAreaLeft" fmla="*/ 227520 w 615960"/>
              <a:gd name="textAreaRight" fmla="*/ 597240 w 615960"/>
              <a:gd name="textAreaTop" fmla="*/ 30600 h 720720"/>
              <a:gd name="textAreaBottom" fmla="*/ 178560 h 720720"/>
            </a:gdLst>
            <a:ahLst/>
            <a:rect l="textAreaLeft" t="textAreaTop" r="textAreaRight" b="textAreaBottom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5" descr="C:\Users\LiuYanhua\AppData\Local\Microsoft\Windows\Temporary Internet Files\Content.IE5\9EK9JNWU\MC900432548[2].png"/>
          <p:cNvPicPr/>
          <p:nvPr/>
        </p:nvPicPr>
        <p:blipFill>
          <a:blip r:embed="rId2"/>
          <a:stretch/>
        </p:blipFill>
        <p:spPr>
          <a:xfrm>
            <a:off x="755640" y="1413000"/>
            <a:ext cx="800280" cy="72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LiuYanhua\AppData\Local\Microsoft\Windows\Temporary Internet Files\Content.IE5\9EK9JNWU\MC900432548[2].png"/>
          <p:cNvPicPr/>
          <p:nvPr/>
        </p:nvPicPr>
        <p:blipFill>
          <a:blip r:embed="rId3"/>
          <a:stretch/>
        </p:blipFill>
        <p:spPr>
          <a:xfrm>
            <a:off x="7667640" y="2205000"/>
            <a:ext cx="799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hoverImg" descr="u=2757821389,29471540&amp;fm=23&amp;gp=0"/>
          <p:cNvPicPr/>
          <p:nvPr/>
        </p:nvPicPr>
        <p:blipFill>
          <a:blip r:embed="rId2"/>
          <a:stretch/>
        </p:blipFill>
        <p:spPr>
          <a:xfrm>
            <a:off x="2050920" y="3500280"/>
            <a:ext cx="4465800" cy="29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260280"/>
            <a:ext cx="4032360" cy="3097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788000" y="620640"/>
            <a:ext cx="3742560" cy="1799640"/>
            <a:chOff x="4788000" y="620640"/>
            <a:chExt cx="3742560" cy="1799640"/>
          </a:xfrm>
        </p:grpSpPr>
        <p:sp>
          <p:nvSpPr>
            <p:cNvPr id="97" name=""/>
            <p:cNvSpPr/>
            <p:nvPr/>
          </p:nvSpPr>
          <p:spPr>
            <a:xfrm>
              <a:off x="4788000" y="62064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88000" y="122076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88000" y="181980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88000" y="2420280"/>
              <a:ext cx="37425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219640" y="69228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Lucida Console"/>
                <a:ea typeface="PMingLiU-ExtB"/>
              </a:rPr>
              <a:t>egg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hoverImg" descr="u=4149451819,1214075835&amp;fm=23&amp;gp=0"/>
          <p:cNvPicPr/>
          <p:nvPr/>
        </p:nvPicPr>
        <p:blipFill>
          <a:blip r:embed="rId2"/>
          <a:stretch/>
        </p:blipFill>
        <p:spPr>
          <a:xfrm>
            <a:off x="4572000" y="2852640"/>
            <a:ext cx="3960720" cy="3403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3"/>
          <a:stretch/>
        </p:blipFill>
        <p:spPr>
          <a:xfrm>
            <a:off x="0" y="190440"/>
            <a:ext cx="3349800" cy="2949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003640" y="692280"/>
            <a:ext cx="30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Monotype Corsiva"/>
                <a:ea typeface="PMingLiU-ExtB"/>
              </a:rPr>
              <a:t>fish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211640" y="692280"/>
            <a:ext cx="4752000" cy="1943640"/>
            <a:chOff x="4211640" y="692280"/>
            <a:chExt cx="4752000" cy="1943640"/>
          </a:xfrm>
        </p:grpSpPr>
        <p:sp>
          <p:nvSpPr>
            <p:cNvPr id="106" name=""/>
            <p:cNvSpPr/>
            <p:nvPr/>
          </p:nvSpPr>
          <p:spPr>
            <a:xfrm>
              <a:off x="4211640" y="69228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11640" y="134064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11640" y="198756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11640" y="2635920"/>
              <a:ext cx="47520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img_" descr="u=3813095053,2659220933&amp;fm=21&amp;gp=0"/>
          <p:cNvPicPr/>
          <p:nvPr/>
        </p:nvPicPr>
        <p:blipFill>
          <a:blip r:embed="rId2"/>
          <a:stretch/>
        </p:blipFill>
        <p:spPr>
          <a:xfrm>
            <a:off x="4500720" y="3213000"/>
            <a:ext cx="43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0" y="189000"/>
            <a:ext cx="3851280" cy="29509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4788000" y="333360"/>
            <a:ext cx="3455280" cy="2014920"/>
            <a:chOff x="4788000" y="333360"/>
            <a:chExt cx="3455280" cy="2014920"/>
          </a:xfrm>
        </p:grpSpPr>
        <p:sp>
          <p:nvSpPr>
            <p:cNvPr id="113" name=""/>
            <p:cNvSpPr/>
            <p:nvPr/>
          </p:nvSpPr>
          <p:spPr>
            <a:xfrm>
              <a:off x="4788000" y="33336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88000" y="100548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167616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88000" y="2348280"/>
              <a:ext cx="3455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364000" y="476280"/>
            <a:ext cx="223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00"/>
                </a:solidFill>
                <a:latin typeface="Microsoft Sans Serif"/>
              </a:rPr>
              <a:t>girl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img_" descr="u=2158767380,2143635832&amp;fm=59"/>
          <p:cNvPicPr/>
          <p:nvPr/>
        </p:nvPicPr>
        <p:blipFill>
          <a:blip r:embed="rId2"/>
          <a:stretch/>
        </p:blipFill>
        <p:spPr>
          <a:xfrm>
            <a:off x="4716360" y="3706920"/>
            <a:ext cx="4176720" cy="3151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0" y="190440"/>
            <a:ext cx="3851280" cy="29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292720" y="83664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Monotype Corsiva"/>
              </a:rPr>
              <a:t>hand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357800" y="766800"/>
            <a:ext cx="4750200" cy="1943640"/>
            <a:chOff x="4357800" y="766800"/>
            <a:chExt cx="4750200" cy="1943640"/>
          </a:xfrm>
        </p:grpSpPr>
        <p:sp>
          <p:nvSpPr>
            <p:cNvPr id="122" name=""/>
            <p:cNvSpPr/>
            <p:nvPr/>
          </p:nvSpPr>
          <p:spPr>
            <a:xfrm>
              <a:off x="4357800" y="76680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57800" y="141516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57800" y="206208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57800" y="2710440"/>
              <a:ext cx="475020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hoverImg" descr="u=2437279712,2754501425&amp;fm=23&amp;gp=0"/>
          <p:cNvPicPr/>
          <p:nvPr/>
        </p:nvPicPr>
        <p:blipFill>
          <a:blip r:embed="rId2"/>
          <a:stretch/>
        </p:blipFill>
        <p:spPr>
          <a:xfrm>
            <a:off x="3925800" y="3573360"/>
            <a:ext cx="4608720" cy="30560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166920" cy="27370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539640" y="477720"/>
            <a:ext cx="7991280" cy="2015280"/>
            <a:chOff x="539640" y="477720"/>
            <a:chExt cx="7991280" cy="2015280"/>
          </a:xfrm>
        </p:grpSpPr>
        <p:sp>
          <p:nvSpPr>
            <p:cNvPr id="129" name=""/>
            <p:cNvSpPr/>
            <p:nvPr/>
          </p:nvSpPr>
          <p:spPr>
            <a:xfrm>
              <a:off x="539640" y="47772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9640" y="114984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182088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9640" y="2493000"/>
              <a:ext cx="799128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971640" y="549360"/>
            <a:ext cx="705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00ff"/>
                </a:solidFill>
                <a:latin typeface="Monotype Corsiva"/>
              </a:rPr>
              <a:t>ice cream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hoverImg" descr="u=2491535566,1777490122&amp;fm=23&amp;gp=0"/>
          <p:cNvPicPr/>
          <p:nvPr/>
        </p:nvPicPr>
        <p:blipFill>
          <a:blip r:embed="rId2"/>
          <a:stretch/>
        </p:blipFill>
        <p:spPr>
          <a:xfrm>
            <a:off x="4246560" y="3400560"/>
            <a:ext cx="4897440" cy="345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3708360" cy="30970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788000" y="692280"/>
            <a:ext cx="33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Monotype Corsiva"/>
              </a:rPr>
              <a:t>juice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995640" y="620640"/>
            <a:ext cx="4896360" cy="1943640"/>
            <a:chOff x="3995640" y="620640"/>
            <a:chExt cx="4896360" cy="1943640"/>
          </a:xfrm>
        </p:grpSpPr>
        <p:sp>
          <p:nvSpPr>
            <p:cNvPr id="138" name=""/>
            <p:cNvSpPr/>
            <p:nvPr/>
          </p:nvSpPr>
          <p:spPr>
            <a:xfrm>
              <a:off x="3995640" y="62064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95640" y="126900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5640" y="191592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95640" y="2564280"/>
              <a:ext cx="4896360" cy="0"/>
            </a:xfrm>
            <a:prstGeom prst="line">
              <a:avLst/>
            </a:prstGeom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51:45Z</dcterms:created>
  <dc:creator>USER</dc:creator>
  <dc:description/>
  <dc:language>en-US</dc:language>
  <cp:lastModifiedBy>Windows 用户</cp:lastModifiedBy>
  <dcterms:modified xsi:type="dcterms:W3CDTF">2014-10-17T00:29:59Z</dcterms:modified>
  <cp:revision>21</cp:revision>
  <dc:subject/>
  <dc:title>Unit 2  Friends  and  Colou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